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5D0-0288-46CE-9343-31749C31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E4F6-36F1-42AD-98AC-80F25BFD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3E0-845E-4EA5-A428-9546BCD6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261-A0CD-49B5-BFB9-B0B8EA44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9706-51E9-4E65-B62A-F47A0F71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B58C-104A-4A16-858D-677D1A9D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B340-B98B-4B7A-8D6D-7BA397E0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58D5-AB2E-4320-B5A2-087C541C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B04A-0AC4-42D7-9D50-DF80F9C2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32D0-00F6-49F2-83DC-0C2F5CF6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FB06-3728-4A9D-98BB-63DA5F8D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357-C80E-4F17-A8F3-C59F9B91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7F1B-154E-4593-AFBA-7C291DB0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3AD7-64DA-44F7-B987-56AB3F2D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5936-3B88-4666-8068-4D16272C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9F79-B75A-4F00-8A5C-EDDAC0D4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8FA5-5B02-4EB9-B581-B04E5BFE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95D-4301-44B8-8DAE-88E16899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C32-32F8-4DD1-A95B-5C95E1CD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6637-E5DB-452E-9EDC-7E3ECFBD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169-CEBC-4256-A48F-370F786E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E13C-D691-4AE6-9544-44888AA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E93-E916-4804-8362-6362C606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DD2E-F67D-4D9C-AB79-C10C17B4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6540-92B5-44A1-86BB-F6EAE37B547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CB62-6C77-40A1-9B6C-F0D070E61AA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63280" y="1628280"/>
            <a:ext cx="5761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ompeten</a:t>
            </a:r>
            <a:r>
              <a:rPr b="0" lang="ro-RO" sz="4800" spc="-1" strike="noStrike">
                <a:solidFill>
                  <a:srgbClr val="99ccff"/>
                </a:solidFill>
                <a:latin typeface="Arial"/>
              </a:rPr>
              <a:t>țe digital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omic"/>
              </a:rPr>
              <a:t>Bacalaureat 2010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orta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Arial"/>
              </a:rPr>
              <a:t>Pentru a afla informații cu privire la desfășurarea examenului de bacalaureat, accesați site-ul Ministerului Educației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ecff"/>
                </a:solidFill>
                <a:latin typeface="Arial"/>
              </a:rPr>
              <a:t>Rezultate parți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5760" y="2060640"/>
          <a:ext cx="8226360" cy="4035240"/>
        </p:xfrm>
        <a:graphic>
          <a:graphicData uri="http://schemas.openxmlformats.org/drawingml/2006/table">
            <a:tbl>
              <a:tblPr/>
              <a:tblGrid>
                <a:gridCol w="4113000"/>
                <a:gridCol w="4113360"/>
              </a:tblGrid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Numele și prenumel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unctaj obținu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op Mari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6 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rian Victoria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3 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untean Emi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8 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Vasile Danie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5 p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0:38:49Z</dcterms:created>
  <dc:creator>AS</dc:creator>
  <dc:description/>
  <dc:language>en-US</dc:language>
  <cp:lastModifiedBy>AS</cp:lastModifiedBy>
  <dcterms:modified xsi:type="dcterms:W3CDTF">2010-01-06T21:04:36Z</dcterms:modified>
  <cp:revision>7</cp:revision>
  <dc:subject/>
  <dc:title>Diapozitivul 1</dc:title>
</cp:coreProperties>
</file>